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CE8F-A165-497F-AA66-363EFA28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FBC5-CEDE-403F-9DAC-75B3514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3363-2D61-44D7-9311-5F9D8AF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26BF-0F2E-42B8-A8C9-538F457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D14-9387-41ED-AB87-95F92EF7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04A-9010-4AD2-AFA2-E8A55CF8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C83-81EA-4F41-80E1-285B33B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3299-B564-47F8-8F25-C1A55E6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A7FA-31B3-4AAB-B2B2-71B8A61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E84D-7937-42DE-BEE0-7647805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81E5-14F4-488F-B81E-83B3076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74C5-3B81-4229-A8D2-4FC46FBE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2F2-A278-4E7E-8C2A-E00E2819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05AE-98B4-4FDF-9F9C-55E355A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30D-1F50-489E-AF53-976198E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0929-BB17-4CCC-A29D-3CE5B7D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916-CAFA-424E-AC87-0BCB1732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6415-8C2E-4B0B-8DC1-76F2A6A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3CCB-4800-45AD-A138-E96E988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05D3-EAE9-45E5-AE50-6107B5F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CB07-D114-4381-87A3-E32FA1DC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5551-39F0-4454-96AE-D09637F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8E94-0DAB-480F-B476-785BF41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D0C9-DB73-487C-A84B-869E7CA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F6C-9559-48FA-88EE-AF22CE021A11}" type="slidenum">
              <a:rPr b="0" lang="en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076-77A2-4D81-AC7A-CDF6B1A076EB}" type="slidenum">
              <a:rPr b="0" lang="en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manbaluch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stat.org/publications/jse/v12n2/smith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"/>
              </a:rPr>
              <a:t>Sample Size Determination Using G*Pow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476760" y="42667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man Bin Na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57150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an, The Children’s Hospital &amp; ICH, M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D Scholar, Department of Library &amp; Information Scienc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Islamia University of Bahawalpur.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almanbaluch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ample Size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1676520"/>
            <a:ext cx="8458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Calculation for Confidence Interval (Propor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2590920" y="2362320"/>
                <a:ext cx="36576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80773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hen, J. (1988). Statistical power analysis for the behavioral sciences (2nd ed.). New Jersey: Lawrence Erlba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th, M. (2004). Is it the sample size of the sample as a fraction of the population that matters? Journal of Statistics Education. 12:2. Retrieved September 14, 2006 from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amstat.org/publications/jse/v12n2/smi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on, M. Q. (1990). Qualitative research and evaluation methods. London: Sage Pub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actical S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is G*Power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ower ?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ype I &amp; II erro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use power calculations to determine my sample siz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ow large should the sample size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is Statistical Significance, Effect size, Alpha value, Desired Power and Standard Dev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ample size for one &amp; two tailed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ample size for T tests and ANO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ample Size for Correlations and Regress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plan to use inferential statistics (e.g., t-tests, ANOVA, Regression etc.) to analyze your evaluation results, you should first conduct a power analysis to determine what sample size you will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troduction to G*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ee tool for sample size calculation (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and power analysis (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post hoc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909ff"/>
                </a:solidFill>
                <a:uFillTx/>
                <a:latin typeface="Arial"/>
              </a:rPr>
              <a:t>http://www.psycho.uni-duesseldorf.de/abteilungen/aap/gpower3/download-and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9528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What is po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refers to the probability that your test will find a statistically significant difference when such a difference actually ex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power is the probability that you will reject the null hypothesis when you should (and thus avoid a Type II erro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generally accepted that power should be .8 or greater; that is, you should have an 80% or greater chance of finding a statistically significant difference when there is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ample Siz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57200" y="114300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ype of Statistical Tes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test you plan to use (e.g., independent t-test, paired t-test, ANOVA, regression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Level of signific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pha value or significance level you are using (usually 0.01 or 0.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ffect siz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size of difference or relationship’s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– credibility of the test, chance of finding effect if it does exist. Higher power requires larger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0"/>
          <p:cNvGraphicFramePr/>
          <p:nvPr/>
        </p:nvGraphicFramePr>
        <p:xfrm>
          <a:off x="304920" y="3276720"/>
          <a:ext cx="8692920" cy="34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869292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How Do I Know Effect S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28600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Based on previous studies with similar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Based on pilot study conducted with small group of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stimated using the change/size of practical signific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ssumed to be medium (</a:t>
            </a: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Cohen’s d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= 0.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" y="1503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ffect size is usually determined using one of the follow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ample Size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t least 30 cases per group (t-test/ANOV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t least 10 cases per variable (regression models) and minimum 50 cases in to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qual samples (in each group) work best for many statistical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ules-of-thum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ample Size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lculation for Confidence Interval (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7"/>
              <p:cNvSpPr txBox="1"/>
              <p:nvPr/>
            </p:nvSpPr>
            <p:spPr>
              <a:xfrm>
                <a:off x="2971800" y="2438280"/>
                <a:ext cx="24382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2" name="Picture 19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8487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4:34:17Z</dcterms:created>
  <dc:creator>Anton</dc:creator>
  <dc:description/>
  <dc:language>en-US</dc:language>
  <cp:lastModifiedBy>Salman</cp:lastModifiedBy>
  <dcterms:modified xsi:type="dcterms:W3CDTF">2014-06-23T16:39:27Z</dcterms:modified>
  <cp:revision>79</cp:revision>
  <dc:subject/>
  <dc:title>Slide 1</dc:title>
</cp:coreProperties>
</file>